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BFD-551D-475E-8425-6F126C27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78E-F970-4E28-8B30-91329F56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AD2-7CAA-44A2-B192-DBC7693D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A06-751E-4A90-B847-EB5AE504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298-90D6-4807-AA4C-E1F782C7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D8B-DA0E-4FEC-A2D4-E551679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955-50E1-463D-81F1-B6B2EB5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8A5-4F92-43F3-8E10-482295D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84D-826B-4EDC-848C-852D29D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F55-FA43-4EFB-BDB1-0ABD4DD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16F-EF68-42B0-949A-4F0244F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FC3-44FC-471C-B135-FABCD3F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AFD0-6F4B-454A-A5A4-9C9D8D9A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Title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: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itle tells the reader what the story is about in a f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51560" y="228600"/>
            <a:ext cx="269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Begin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ime –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lace –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aracters –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107460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897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5334120"/>
            <a:ext cx="25146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iddl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ails of the event – 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* small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E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/ Closure - How did the even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57640" y="25574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22:40Z</dcterms:created>
  <dc:creator>Jennifer Dalton</dc:creator>
  <dc:description/>
  <dc:language>en-US</dc:language>
  <cp:lastModifiedBy>Jennifer Dalton</cp:lastModifiedBy>
  <dcterms:modified xsi:type="dcterms:W3CDTF">2012-05-23T16:52:51Z</dcterms:modified>
  <cp:revision>3</cp:revision>
  <dc:subject/>
  <dc:title>Title:    </dc:title>
</cp:coreProperties>
</file>